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12.jpeg" ContentType="image/jpeg"/>
  <Override PartName="/ppt/media/image4.pct" ContentType="image/x-pict"/>
  <Override PartName="/ppt/media/image5.pct" ContentType="image/x-pict"/>
  <Override PartName="/ppt/media/image11.jpeg" ContentType="image/jpeg"/>
  <Override PartName="/ppt/media/image6.pct" ContentType="image/x-pict"/>
  <Override PartName="/ppt/media/image7.pct" ContentType="image/x-pict"/>
  <Override PartName="/ppt/media/image10.jpeg" ContentType="image/jpeg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E0B6-3939-4A54-B293-89EC4B55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D0D-58BD-40C1-AB3B-B71AC4026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88F-CCDF-4A5B-ADE2-33CFC575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729-5555-455F-8EA8-A8F2EFA9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E405-0CD7-4574-AE91-4FAB915F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CBB2-6A90-4224-A050-62F92E2E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40A9-7513-479E-B503-AC4F6B62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73CE-00BC-44B6-8CF7-22ABA123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4592-D7AB-41FC-94A1-7023D41C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35A8-7103-471F-BCF1-514A32B3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56FB-D902-46BF-BF76-5DE2FF37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117-CC41-4F77-8169-7EC3FFAA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224B-5428-47CD-9A54-49AF59F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E51F-60DB-4D67-89FE-FE97C6D1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D43B-AEBF-4261-9D1E-80327253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BE5F-2A01-457A-8DC4-9792117D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900B-C03D-4435-8D0E-293B53EB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946-6C98-4F77-80B4-AE1E4FBF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065-EB4C-4F4A-86B8-24931179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8DD-439E-4C51-891A-11B22570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A77-B6F2-4E51-9736-09998519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925-902B-4724-9DC6-B1B5B046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200-E1AB-416E-8B65-AEA25AF2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BFE-F20A-4EEF-849D-B14FE12F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58DA-D542-4D87-95BB-10147E093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ECF8-4868-436C-A26A-4CD5C59D2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enetics &amp;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of Genetic D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 for extra fingers &amp; toes is 1 out of 14 in Amish people but 1 out of 1000 for the rest of the U.S.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743200" cy="2133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3581280" y="251460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that disrupt a population’s 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flow - transport of genes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rating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lost from the gene pool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dividual leaves a population;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dded when an individual enter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00400" y="4876920"/>
            <a:ext cx="5562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that disrupt a population’s 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he 3 mechanisms previously described primarily affect evolution of small, isolated gene pools (like those on islands) but their effect is often insignificant in larger, less isolated gene pools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that disrupt a population’s 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selection - the most significant factor that causes changes in established gene pools, whether they are large o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types of natural selection: stabilizing, directional, &amp; disru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ilizing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s the average individuals 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variation 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al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s individuals with one of the extreme variations of a tr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sult in rapid evolutionary change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8305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ruptive Natural 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rs individuals with either extreme of a traits var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lead to evolution of 2 distinct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8305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Genetics &amp;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do not evolve but populations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when the frequency of alleles remains the same over generations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7315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pool - All of the alleles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’s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038480" cy="397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190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 Frequency - percentage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llele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p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62360" y="503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467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pulation that is in genetic equilibrium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ol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that affects the genes in a gene pool can change allelic frequencies, which will disrupt a population’s genetic equilibrium and result in the process of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that disrupt a population’s 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ations: introduce new alleles in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pool &amp; change alle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8382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sms that disrupt a population’s genetic equilib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drift - alteration of alle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ies by ch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mainly in small populations that interbreed with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2:35:21Z</dcterms:created>
  <dc:creator>Clayton Johns</dc:creator>
  <dc:description/>
  <dc:language>en-US</dc:language>
  <cp:lastModifiedBy>NHS NPS</cp:lastModifiedBy>
  <dcterms:modified xsi:type="dcterms:W3CDTF">2014-03-21T15:45:14Z</dcterms:modified>
  <cp:revision>5</cp:revision>
  <dc:subject/>
  <dc:title>Population Genetics &amp; Evolution</dc:title>
</cp:coreProperties>
</file>